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5CB-D6D8-4EC1-A776-E353FC48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A24-4515-4CEB-9A23-A61638D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C12-99B1-4E0F-8116-6471FC42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C11-CF2D-483B-BF9F-50411241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919-ED19-49FC-8649-0C5BC2F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4B8-B300-4024-80CA-212CC2A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582-EF89-4BDF-B710-6EE3619F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10F-CDFC-4761-88AF-1F55DE3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C26-DE9D-4E3A-B5EF-C012C69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ED0-BEBD-4141-B159-79F9BA6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AAD-F45D-4795-8252-34CE8F4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F53-0B65-45F1-A087-6EF39C5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282-97A2-47C8-9A2C-4D685F69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liam Pierce Senior 09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ing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2445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5608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583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312920"/>
            <a:ext cx="80769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8160" y="1143000"/>
            <a:ext cx="359892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3578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68480" y="1143000"/>
            <a:ext cx="374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94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9440" y="1295280"/>
            <a:ext cx="404028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2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197240" cy="541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178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9376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2800" y="1870200"/>
            <a:ext cx="59166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709640"/>
            <a:ext cx="5639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20660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7360" y="1219320"/>
            <a:ext cx="43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89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171440"/>
            <a:ext cx="6934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int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214280"/>
            <a:ext cx="73915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 F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ing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42:02Z</dcterms:created>
  <dc:creator>Default User</dc:creator>
  <dc:description/>
  <dc:language>en-US</dc:language>
  <cp:lastModifiedBy>C</cp:lastModifiedBy>
  <dcterms:modified xsi:type="dcterms:W3CDTF">2009-05-22T21:58:14Z</dcterms:modified>
  <cp:revision>15</cp:revision>
  <dc:subject/>
  <dc:title>Slide 1</dc:title>
</cp:coreProperties>
</file>